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5E9-4344-4267-9335-A337B095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45A-3CC3-4C0C-881D-2C462E9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BA1-1521-4C97-8577-CA8C9642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108-7909-49F8-A44B-A10AA4B4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D69-FBDE-4912-9673-E27BB0B9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09E-521F-43C9-BBD6-0D07FCBC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3D5-E389-4B7C-946E-B2D4FF7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80A-26BB-41D2-8244-9486748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461-48AE-4555-8CBD-680EA889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C9C-5DB8-48F5-AA38-0B1CAD7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4B8-13C2-4F92-B57C-FB40DAB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E6D-7FB8-4F03-B543-F9B3D8A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811F-C786-4402-9F92-05983922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imon and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saile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ntains were very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4724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ich were green and pur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probably up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vil du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ttack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give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ave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ong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33:44Z</dcterms:created>
  <dc:creator>Lakeview</dc:creator>
  <dc:description/>
  <dc:language>en-US</dc:language>
  <cp:lastModifiedBy>cyndi.vander_ven</cp:lastModifiedBy>
  <dcterms:modified xsi:type="dcterms:W3CDTF">2009-04-27T02:05:14Z</dcterms:modified>
  <cp:revision>3</cp:revision>
  <dc:subject/>
  <dc:title>Poem</dc:title>
</cp:coreProperties>
</file>